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0A5B-8821-48AE-B21F-3F03F8833CD1}"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5E4A-BE9D-49FD-B6A0-EC708206330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1B14-6049-4CA4-9F5D-9082CBD3E35D}"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AD34-5234-4578-BAB4-8973DC578683}"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B499-FACA-4BF1-8FB5-7C37327218B6}"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3BEA-2DD4-4CD6-A22C-BF9E5E323D07}"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7196-32F1-463C-B63C-E37016E1E25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0AA2-A78A-4E71-8418-FB5559C4AA13}"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B265-BE35-4575-9860-155112CA5AD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F4D7-2A92-4A00-BFBC-E4BA45F2A20F}"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1C262-ED45-4E66-A152-3487EBAE1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BA3D6-96F0-4519-93E7-598FF254F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07421-17F1-44F4-850D-3F203DB0B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5A0AD-1D4C-41B2-9CD3-27E7624BB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72523-1CEE-44F2-AFA3-D5DEC5AAA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CEBC6-87B0-4EF7-8196-673791E4F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0EF7F-09BA-46F2-97C8-C7EB67E94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5F81D-AECA-4571-97BE-2BBC030D0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F8926-C080-4DC0-8B85-3C34AF0DD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E5974-B962-4420-97E5-B74243018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4DC1F-FCE8-4D62-8CC3-78C480311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4A2E-A7EF-492D-A662-25794BD9B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DB4E-C1AF-4F40-BCE7-514CE3605893}"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21:59Z</dcterms:modified>
  <cp:revision>23</cp:revision>
  <dc:subject/>
  <dc:title>PowerPoint Presentation</dc:title>
</cp:coreProperties>
</file>